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266-477C-4457-8CB1-A0F87645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4E0-56CE-4D4F-8989-101D1CE2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0B3-2638-4558-A4AA-906B2C96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AC7-87E0-474E-9A4A-F0C17A39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7D0D-1517-42A4-B2BF-5B45E2AB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9CA5-0120-49AE-A0F8-CE815A07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3BF4-E2B0-4CDB-B53A-14728561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3513-EE9B-4E59-B96D-322C45D6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ECD7-2516-4F37-8187-5B98B3E2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6FB5-4FD2-4619-802E-CADA52E7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3EE9-E994-4462-8EBF-504CD737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73F-9F5F-4D60-A9AF-19847FF3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9939-0827-4411-B27A-AED39614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441F-4184-42D4-9629-CE7581C6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C58F-EB75-441C-92BB-2E5A2118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80E0-388E-4261-BE18-2B8B274B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C3DE-6521-4DC2-A704-9893D552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DA3C-C61D-4DC2-9EF4-3192E00D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A53-9B7D-409C-BF08-10E659CB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B4B-B2F9-4E27-8E12-8488CF29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ACF-613C-477E-A51E-58F67B47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E30-CBE6-4F9C-94D4-F27D1539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F5D-09BA-4982-8397-FF2471AC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212-4E3F-471E-9E64-4E95C822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6F31-7B4A-43DF-9559-625064969FE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96CF-FE5E-4D91-8E50-51B10BE4ED3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th Wik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odsoe-daigle@wikispaces.c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d By the Way…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ki” means “Quick” in Hawaii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 get to your Wiki…wiki wiki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ink from my Wiki to Your Wik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rom our Math Enrichment Home page, click on nms-mathletics on the side navigation ba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nce you are at nms-mathletics, request permission to join the site so that you are able to edit your pag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fter we accept you as a member, click on  your name on the Wiki site, you simply have to click on it and start creating your electronic portfoli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iki  means …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oint of having your own page of the Wiki is so that you have an Electronic Portfolio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ok at our 4 goals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th Competi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w Math Skil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adership Project that uses your Multiple Intelligenc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un with Ma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ke 4 sections in your Wiki pag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 that you can report on your progress for each of our goa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#1  Math Competition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cord which exams you have d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cord your mar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ment on your progres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rite about questions that you find easy and har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#2  New Math Skil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d links for sites that teach the new ski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rite about things that you want to learn abou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sk questions that others can answ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are your “Eureka” moments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#3  Leadership Projec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early state what your project 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d a visual of what you are do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d lin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d questions that others can answer on the discussion boar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#4  Fun With Mat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d Mensa-type ques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your favourite game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d lin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12:57Z</dcterms:created>
  <dc:creator>karen.godsoe-daigle</dc:creator>
  <dc:description/>
  <dc:language>en-US</dc:language>
  <cp:lastModifiedBy>karen.godsoe-daigle</cp:lastModifiedBy>
  <dcterms:modified xsi:type="dcterms:W3CDTF">2008-02-07T12:27:22Z</dcterms:modified>
  <cp:revision>5</cp:revision>
  <dc:subject/>
  <dc:title>Math Wiki</dc:title>
</cp:coreProperties>
</file>